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5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42.jpeg" ContentType="image/jpeg"/>
  <Override PartName="/ppt/media/image22.wmf" ContentType="image/x-wmf"/>
  <Override PartName="/ppt/media/image20.wmf" ContentType="image/x-wmf"/>
  <Override PartName="/ppt/media/image17.png" ContentType="image/png"/>
  <Override PartName="/ppt/media/image32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55.wmf" ContentType="image/x-wmf"/>
  <Override PartName="/ppt/media/image16.png" ContentType="image/png"/>
  <Override PartName="/ppt/media/image49.jpeg" ContentType="image/jpeg"/>
  <Override PartName="/ppt/media/image56.wmf" ContentType="image/x-wmf"/>
  <Override PartName="/ppt/media/image15.jpeg" ContentType="image/jpeg"/>
  <Override PartName="/ppt/media/image24.png" ContentType="image/png"/>
  <Override PartName="/ppt/media/image1.png" ContentType="image/png"/>
  <Override PartName="/ppt/media/image29.wmf" ContentType="image/x-wmf"/>
  <Override PartName="/ppt/media/image2.jpeg" ContentType="image/jpeg"/>
  <Override PartName="/ppt/media/image36.jpeg" ContentType="image/jpeg"/>
  <Override PartName="/ppt/media/image4.wmf" ContentType="image/x-wmf"/>
  <Override PartName="/ppt/media/image34.wmf" ContentType="image/x-wmf"/>
  <Override PartName="/ppt/media/image28.wmf" ContentType="image/x-wmf"/>
  <Override PartName="/ppt/media/image27.jpeg" ContentType="image/jpeg"/>
  <Override PartName="/ppt/media/image50.jpeg" ContentType="image/jpeg"/>
  <Override PartName="/ppt/media/image10.png" ContentType="image/png"/>
  <Override PartName="/ppt/media/image35.jpeg" ContentType="image/jpeg"/>
  <Override PartName="/ppt/media/image47.png" ContentType="image/png"/>
  <Override PartName="/ppt/media/image33.jpeg" ContentType="image/jpeg"/>
  <Override PartName="/ppt/media/image30.wmf" ContentType="image/x-wmf"/>
  <Override PartName="/ppt/media/image5.wmf" ContentType="image/x-wmf"/>
  <Override PartName="/ppt/media/image43.wmf" ContentType="image/x-wmf"/>
  <Override PartName="/ppt/media/image51.jpeg" ContentType="image/jpeg"/>
  <Override PartName="/ppt/media/image23.png" ContentType="image/png"/>
  <Override PartName="/ppt/media/image13.jpeg" ContentType="image/jpeg"/>
  <Override PartName="/ppt/media/image40.jpeg" ContentType="image/jpeg"/>
  <Override PartName="/ppt/media/image54.wmf" ContentType="image/x-wmf"/>
  <Override PartName="/ppt/media/image9.png" ContentType="image/png"/>
  <Override PartName="/ppt/media/image45.wmf" ContentType="image/x-wmf"/>
  <Override PartName="/ppt/media/image31.jpeg" ContentType="image/jpeg"/>
  <Override PartName="/ppt/media/image11.wmf" ContentType="image/x-wmf"/>
  <Override PartName="/ppt/media/image3.png" ContentType="image/png"/>
  <Override PartName="/ppt/media/image26.png" ContentType="image/png"/>
  <Override PartName="/ppt/media/image44.wmf" ContentType="image/x-wmf"/>
  <Override PartName="/ppt/media/image46.wmf" ContentType="image/x-wmf"/>
  <Override PartName="/ppt/media/image48.jpeg" ContentType="image/jpeg"/>
  <Override PartName="/ppt/media/image52.wmf" ContentType="image/x-wmf"/>
  <Override PartName="/ppt/media/image37.png" ContentType="image/png"/>
  <Override PartName="/ppt/media/image7.png" ContentType="image/png"/>
  <Override PartName="/ppt/media/image53.wmf" ContentType="image/x-wmf"/>
  <Override PartName="/ppt/media/image12.wmf" ContentType="image/x-wmf"/>
  <Override PartName="/ppt/media/image14.jpeg" ContentType="image/jpeg"/>
  <Override PartName="/ppt/media/image41.jpeg" ContentType="image/jpeg"/>
  <Override PartName="/ppt/media/image8.png" ContentType="image/png"/>
  <Override PartName="/ppt/media/image39.jpeg" ContentType="image/jpeg"/>
  <Override PartName="/ppt/media/image38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657A1-1C14-4B76-B79D-F6CA4728F1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E1AF0-D781-4DFB-ACD0-04BAF6B19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随着病程的延长，病人的肢体功能也在变化，所以要请专业人员定期对矫形器进行检查、调整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22912-A2CF-4C7C-BB02-4F0C23CBB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43789-AD30-4EC6-A762-DF3AC59F6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）按结构分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壳式假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亦称外骨骼假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和骨骸式假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亦称内骨骼假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）按用途分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装饰性假肢、功能性假肢、作业性假肢和运动性假肢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）按安装时间分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临时性假肢和正式性假肢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）按解剖部位分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上肢假肢（补缺假指、前臂假肢、上臂假肢、肩关节离断假肢）和下肢假肢（踝部假肢、小腿假肢、大腿假肢、膝部假肢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67079-D438-4C27-990D-51D9EEAF7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9A466-BD71-4824-A6E4-F218DF796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7EAE-1186-4861-B1E8-1FB81F159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C617-86D0-48C8-89F4-A26A72DA6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F78A-B590-40D2-961A-8827B5A3F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0DB2-9271-436C-96C2-C616D411A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08548-F5AE-4E1E-9A1E-A0FB89A9B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71D2F-F826-4FDB-A379-66964D21F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9EF62-8E94-440C-9D07-BDC34B3AD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70467-891F-4E32-B2EE-3582B5C39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14806-961E-4989-B15E-D7B301E41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7E303-6CFF-4491-B95F-AC462A495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8523A-2A8A-4B3D-9960-941174D4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AFEE-7F2D-4C14-A57D-D0DCA9B62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56B5B-9553-426C-9A95-64EC017C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DA672-3D64-431C-9C2E-E526F358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208DA-D2B3-4B49-9690-AD3D72BD3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2CC4E-0437-4BD9-ACEE-0FC9B2105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4BB5C-56C9-42B4-AE9C-7C7DA2443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2D6F-4FF2-4DF9-BC3E-1AAFF4EBA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CC68-55AE-4820-83D1-787C8526C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B610-B8FA-4E55-97D6-FB5A819C6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E44B-F9C1-46D2-8C8C-30A79070C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1F8A-EA44-4FF7-9D62-D1388C4E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E103-A315-4112-A685-582259C8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CFB4-BE29-43B8-8BFE-CB2DA418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89347-7E42-48F6-83D6-F7BC8D3E07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张红石制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15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4" name="Group 89"/>
          <p:cNvGrpSpPr/>
          <p:nvPr/>
        </p:nvGrpSpPr>
        <p:grpSpPr>
          <a:xfrm>
            <a:off x="76320" y="0"/>
            <a:ext cx="9144000" cy="2089080"/>
            <a:chOff x="76320" y="0"/>
            <a:chExt cx="9144000" cy="2089080"/>
          </a:xfrm>
        </p:grpSpPr>
        <p:grpSp>
          <p:nvGrpSpPr>
            <p:cNvPr id="45" name="Group 90"/>
            <p:cNvGrpSpPr/>
            <p:nvPr/>
          </p:nvGrpSpPr>
          <p:grpSpPr>
            <a:xfrm>
              <a:off x="104760" y="0"/>
              <a:ext cx="9115560" cy="1790640"/>
              <a:chOff x="104760" y="0"/>
              <a:chExt cx="9115560" cy="1790640"/>
            </a:xfrm>
          </p:grpSpPr>
          <p:sp>
            <p:nvSpPr>
              <p:cNvPr id="46" name="Rectangle 91"/>
              <p:cNvSpPr/>
              <p:nvPr/>
            </p:nvSpPr>
            <p:spPr>
              <a:xfrm flipV="1">
                <a:off x="104760" y="0"/>
                <a:ext cx="9115560" cy="179064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Rectangle 92"/>
              <p:cNvSpPr/>
              <p:nvPr/>
            </p:nvSpPr>
            <p:spPr>
              <a:xfrm flipV="1">
                <a:off x="104760" y="1688760"/>
                <a:ext cx="9115560" cy="10116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Freeform 93"/>
            <p:cNvSpPr/>
            <p:nvPr/>
          </p:nvSpPr>
          <p:spPr>
            <a:xfrm>
              <a:off x="7632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1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2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Rectangle 97"/>
              <p:cNvSpPr/>
              <p:nvPr/>
            </p:nvSpPr>
            <p:spPr>
              <a:xfrm>
                <a:off x="28440" y="5048280"/>
                <a:ext cx="9115560" cy="1015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5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58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141AF-D73B-4094-9387-2D3E276124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张红石制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ktjz.net/UpFile/s2009323172226.jpg&amp;imgrefurl=http://www.ktjz.net/product.asp%3Fclass%3D1%26key%3D%26price1%3D%26price2%3D%26page%3D2%26section%3D1&amp;usg=__Tgr4X0rYzPycCCAh0CMH7JPg0-c=&amp;h=472&amp;w=285&amp;sz=15&amp;hl=zh-CN&amp;start=4&amp;um=1&amp;tbnid=Ck_1pxzwaWuLcM:&amp;tbnh=129&amp;tbnw=78&amp;prev=/images%3Fq%3D%25E6%2588%25AA%25E7%2598%25AB%25E8%25A1%258C%25E8%25B5%25B0%25E5%2599%25A8%26hl%3Dzh-CN%26client%3Dpub-0084673751261698%26channel%3D2000072013%26prog%3Daff%26sa%3DN%26um%3D1%26newwindow%3D1" TargetMode="Externa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dllbjz.cn/cp/UploadFiles_8529/200807/2008071222490113.jpg&amp;imgrefurl=http://www.dllbjz.cn/cp/ShowArticle.asp%3FArticleID%3D59&amp;usg=__9-AcsTQzNmyi_tV7VuSf3V69DL4=&amp;h=459&amp;w=400&amp;sz=113&amp;hl=zh-CN&amp;start=2&amp;um=1&amp;tbnid=lCLF9rdUbW2K7M:&amp;tbnh=128&amp;tbnw=112&amp;prev=/images%3Fq%3D%25E4%25BA%25A4%25E6%259B%25BF%25E5%25BC%258F%25E8%25A1%258C%25E8%25B5%25B0%25E5%2599%25A8%26hl%3Dzh-CN%26client%3Dpub-0084673751261698%26channel%3D2000072013%26prog%3Daff%26sa%3DG%26um%3D1%26newwindow%3D1" TargetMode="External"/><Relationship Id="rId2" Type="http://schemas.openxmlformats.org/officeDocument/2006/relationships/image" Target="../media/image32.jpeg"/><Relationship Id="rId3" Type="http://schemas.openxmlformats.org/officeDocument/2006/relationships/hyperlink" Target="http://images.google.cn/imgres?imgurl=http://www14.babidou.com/pic/2007/11/21/zhangyiyong/&#27704;&#38738;&#24215;/T1n3tXXXJeXXb1upjX.jpg&amp;imgrefurl=http://www.bjwkl.com/goods.php%3Fid%3D1087&amp;usg=__lhBgiRWZw-FyTLqylt8nk0XY2_I=&amp;h=510&amp;w=441&amp;sz=19&amp;hl=zh-CN&amp;start=17&amp;um=1&amp;tbnid=vrakV6QrWj3l9M:&amp;tbnh=131&amp;tbnw=113&amp;prev=/images%3Fq%3D%25E4%25BA%25A4%25E6%259B%25BF%25E5%25BC%258F%25E8%25A1%258C%25E8%25B5%25B0%25E5%2599%25A8%26hl%3Dzh-CN%26client%3Dpub-0084673751261698%26channel%3D2000072013%26prog%3Daff%26sa%3DG%26um%3D1%26newwindow%3D1" TargetMode="External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xinxuyao.com/uploadfiles/image/10327/TXT-200773154851112.jpg&amp;imgrefurl=http://www.xinxuyao.com/health/limbs/share/200707039576.shtml&amp;usg=__GfM65UDpUhBzTFuaEw6LaZgNL2U=&amp;h=465&amp;w=300&amp;sz=61&amp;hl=zh-CN&amp;start=9&amp;um=1&amp;tbnid=L4Mszmm4rdjGLM:&amp;tbnh=128&amp;tbnw=83&amp;prev=/images%3Fq%3D%25E5%2581%2587%25E8%2582%25A2%26hl%3Dzh-CN%26client%3Dpub-0084673751261698%26channel%3D2000072013%26prog%3Daff%26um%3D1%26newwindow%3D1" TargetMode="External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9%CF&#1451;%BC%D9&#1451;&amp;in=17448&amp;cl=2&amp;cm=1&amp;sc=0&amp;lm=-1&amp;pn=11&amp;rn=1&amp;di=1926147380&amp;ln=129" TargetMode="External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9%CF&#1451;%BC%D9&#1451;&amp;in=4649&amp;cl=2&amp;cm=1&amp;sc=0&amp;lm=-1&amp;pn=48&amp;rn=1&amp;di=2011280088&amp;ln=129" TargetMode="External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C%D9&#1451;&amp;in=13320&amp;cl=2&amp;cm=1&amp;sc=0&amp;lm=-1&amp;pn=1&amp;rn=1&amp;di=1550654284&amp;ln=2000" TargetMode="External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xinxuyao.com/uploadfiles/image/10005/TXT-2007911112621.jpg&amp;imgrefurl=http://www.xinxuyao.com/news/tech/2007090111223.shtml&amp;usg=__CaHL7_E2_0SerUNCPu0b7q4PJ0M=&amp;h=419&amp;w=300&amp;sz=23&amp;hl=zh-CN&amp;start=17&amp;um=1&amp;tbnid=wBhRL1vmkBpbyM:&amp;tbnh=125&amp;tbnw=89&amp;prev=/images%3Fq%3D%25E5%2581%2587%25E8%2582%25A2%26hl%3Dzh-CN%26client%3Dpub-0084673751261698%26channel%3D2000072013%26prog%3Daff%26um%3D1%26newwindow%3D1" TargetMode="External"/><Relationship Id="rId2" Type="http://schemas.openxmlformats.org/officeDocument/2006/relationships/image" Target="../media/image41.jpeg"/><Relationship Id="rId3" Type="http://schemas.openxmlformats.org/officeDocument/2006/relationships/hyperlink" Target="http://images.google.cn/imgres?imgurl=http://pic4.sdnews.com.cn/NewsImg/2009/2/20/15894909.jpg&amp;imgrefurl=http://soc.sdnews.com.cn/2009/2/20/725413.html&amp;usg=__O3e5t-D0cV14XMoMuogfOlOHApI=&amp;h=298&amp;w=450&amp;sz=31&amp;hl=zh-CN&amp;start=16&amp;um=1&amp;tbnid=b6P-d-TztxXDMM:&amp;tbnh=84&amp;tbnw=127&amp;prev=/images%3Fq%3D%25E5%2581%2587%25E8%2582%25A2%26hl%3Dzh-CN%26client%3Dpub-0084673751261698%26channel%3D2000072013%26prog%3Daff%26um%3D1%26newwindow%3D1" TargetMode="External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tranism.com/weblog/images/toyota-ireal_01.jpg&amp;imgrefurl=http://madeinchn.cn/thread-16-20448-1-1.htm&amp;usg=__wHKKTj1GngW2PIwkkq19gQd7pYc=&amp;h=374&amp;w=400&amp;sz=18&amp;hl=zh-CN&amp;start=4&amp;um=1&amp;tbnid=PbLMnavSejEhzM:&amp;tbnh=116&amp;tbnw=124&amp;prev=/images%3Fq%3D%25E8%25BD%25AE%25E6%25A4%2585%26hl%3Dzh-CN%26client%3Dpub-0084673751261698%26channel%3D2000072013%26prog%3Daff%26sa%3DN%26um%3D1%26newwindow%3D1" TargetMode="External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xinxuyao.com/uploadfiles/Image/2006-8/2212441759726.jpg&amp;imgrefurl=http://www.xinxuyao.com/products/moves/1/7/200608225099.shtml&amp;usg=__-9kI3OupIVsADwhnx4tf_MN6emA=&amp;h=263&amp;w=240&amp;sz=46&amp;hl=zh-CN&amp;start=1&amp;um=1&amp;tbnid=tVq-EjCrs-aJBM:&amp;tbnh=112&amp;tbnw=102&amp;prev=/images%3Fq%3D%25E5%258D%2595%25E4%25BE%25A7%25E9%25A9%25B1%25E5%258A%25A8%25E8%25BD%25AE%25E6%25A4%2585%26hl%3Dzh-CN%26client%3Dpub-0084673751261698%26channel%3D2000072013%26prog%3Daff%26um%3D1%26newwindow%3D1" TargetMode="External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jwfu.com/upload1/200907/2009771524087730.JPG&amp;imgrefurl=http://www.jwfu.com/products/3112/&amp;usg=__9xQEngyvqfgJfqwuiKi9bE2h09I=&amp;h=2100&amp;w=1323&amp;sz=194&amp;hl=zh-CN&amp;start=5&amp;um=1&amp;tbnid=Ic477TeaP6ITGM:&amp;tbnh=150&amp;tbnw=95&amp;prev=/images%3Fq%3D%25E7%25AB%2599%25E7%25AB%258B%25E5%25BC%258F%25E8%25BD%25AE%25E6%25A4%2585%26hl%3Dzh-CN%26client%3Dpub-0084673751261698%26channel%3D2000072013%26prog%3Daff%26um%3D1%26newwindow%3D1" TargetMode="External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43828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第二节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六、康复工程在康复护理中的应用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4" descr="MCj04380790000[1]"/>
          <p:cNvPicPr/>
          <p:nvPr/>
        </p:nvPicPr>
        <p:blipFill>
          <a:blip r:embed="rId1"/>
          <a:stretch/>
        </p:blipFill>
        <p:spPr>
          <a:xfrm>
            <a:off x="6095880" y="4114800"/>
            <a:ext cx="2743200" cy="21938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3581280" y="541008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张红石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jxq02"/>
          <p:cNvPicPr/>
          <p:nvPr/>
        </p:nvPicPr>
        <p:blipFill>
          <a:blip r:embed="rId1"/>
          <a:stretch/>
        </p:blipFill>
        <p:spPr>
          <a:xfrm>
            <a:off x="304920" y="609480"/>
            <a:ext cx="3328920" cy="42674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1066680" y="551664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矫形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013"/>
          <p:cNvPicPr/>
          <p:nvPr/>
        </p:nvPicPr>
        <p:blipFill>
          <a:blip r:embed="rId2"/>
          <a:stretch/>
        </p:blipFill>
        <p:spPr>
          <a:xfrm>
            <a:off x="4343400" y="457200"/>
            <a:ext cx="3948120" cy="48769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7"/>
          <p:cNvSpPr/>
          <p:nvPr/>
        </p:nvSpPr>
        <p:spPr>
          <a:xfrm>
            <a:off x="5105520" y="548640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肩外展矫形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肢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ow extremity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的：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负重和行走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：支撑体重，辅助或替代肢体功能，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限制下肢关节不必要的活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保持下肢的稳定性，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改善站立和步行时的姿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预防和矫正畸形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CJ23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59961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"/>
          <p:cNvPicPr/>
          <p:nvPr/>
        </p:nvPicPr>
        <p:blipFill>
          <a:blip r:embed="rId2"/>
          <a:stretch/>
        </p:blipFill>
        <p:spPr>
          <a:xfrm>
            <a:off x="5257800" y="533520"/>
            <a:ext cx="1905120" cy="1792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"/>
          <p:cNvPicPr/>
          <p:nvPr/>
        </p:nvPicPr>
        <p:blipFill>
          <a:blip r:embed="rId3"/>
          <a:stretch/>
        </p:blipFill>
        <p:spPr>
          <a:xfrm>
            <a:off x="457200" y="4572000"/>
            <a:ext cx="115884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脊柱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pinal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：支持躯干，保持姿势。辅助稳定局部，减轻疼痛，预防和矫正脊柱畸形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类：颈椎矫形器（围领、颈椎牵引带）、固定式脊柱矫形器、矫正式脊柱矫形器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CJ25"/>
          <p:cNvPicPr/>
          <p:nvPr/>
        </p:nvPicPr>
        <p:blipFill>
          <a:blip r:embed="rId1"/>
          <a:stretch/>
        </p:blipFill>
        <p:spPr>
          <a:xfrm>
            <a:off x="304920" y="304920"/>
            <a:ext cx="8610480" cy="5562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2743200" y="5867280"/>
            <a:ext cx="322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脊柱矫形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矫形器使用的护理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矫形器的穿戴要正确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定时清理，保持清洁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要定期检查矫形器是否适合病人佩带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佩带矫形器的肢体要进行康复训练，以保持或增强其残余功能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矫形器使用的护理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矫形器不能直接接触皮肤伤口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对下肢水肿的患者应注意矫形器不要紧贴皮肤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要定期检查矫形器佩戴处皮肤是否明显受压，给予及时调整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MCj02153500000[1]"/>
          <p:cNvPicPr/>
          <p:nvPr/>
        </p:nvPicPr>
        <p:blipFill>
          <a:blip r:embed="rId1"/>
          <a:stretch/>
        </p:blipFill>
        <p:spPr>
          <a:xfrm>
            <a:off x="7467480" y="4952880"/>
            <a:ext cx="11937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定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辅助人体支撑体重、保持平衡和行走的工具称为助行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walking aid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适用人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走不稳、下肢短缩或一侧下肢不能支撑或步态不平衡的患者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、步行器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MCj02172300000[1]"/>
          <p:cNvPicPr/>
          <p:nvPr/>
        </p:nvPicPr>
        <p:blipFill>
          <a:blip r:embed="rId1"/>
          <a:stretch/>
        </p:blipFill>
        <p:spPr>
          <a:xfrm>
            <a:off x="7015320" y="4724280"/>
            <a:ext cx="167148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手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tic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前腋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forearm crutc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腋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xillary crutc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平台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latform crutc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MCj02123350000[1]"/>
          <p:cNvPicPr/>
          <p:nvPr/>
        </p:nvPicPr>
        <p:blipFill>
          <a:blip r:embed="rId1"/>
          <a:stretch/>
        </p:blipFill>
        <p:spPr>
          <a:xfrm>
            <a:off x="6858000" y="1676520"/>
            <a:ext cx="1554120" cy="1827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MCj02868650000[1]"/>
          <p:cNvPicPr/>
          <p:nvPr/>
        </p:nvPicPr>
        <p:blipFill>
          <a:blip r:embed="rId2"/>
          <a:stretch/>
        </p:blipFill>
        <p:spPr>
          <a:xfrm>
            <a:off x="6705720" y="4267080"/>
            <a:ext cx="198108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手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tick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为一只手扶持以助行走的工具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包括单足手杖、多足手杖。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8" descr=""/>
          <p:cNvPicPr/>
          <p:nvPr/>
        </p:nvPicPr>
        <p:blipFill>
          <a:blip r:embed="rId1"/>
          <a:stretch/>
        </p:blipFill>
        <p:spPr>
          <a:xfrm>
            <a:off x="5486400" y="1523880"/>
            <a:ext cx="29685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定义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rehabilitation engineering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运用工程和技术的手段替代或补偿减退和丧失的功能，矫正畸形，预防功能进一步退化的工程学称为康复工程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MCj03228430000[1]"/>
          <p:cNvPicPr/>
          <p:nvPr/>
        </p:nvPicPr>
        <p:blipFill>
          <a:blip r:embed="rId1"/>
          <a:stretch/>
        </p:blipFill>
        <p:spPr>
          <a:xfrm>
            <a:off x="6781680" y="4495680"/>
            <a:ext cx="189576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417680"/>
            <a:ext cx="5181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前臂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orearm crut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亦称为洛氏拐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Lofstrand crut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把手的位置和支柱的长度可以调节，夹住前臂的臂套为折页式，有前开口和侧开口两种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"/>
          <p:cNvPicPr/>
          <p:nvPr/>
        </p:nvPicPr>
        <p:blipFill>
          <a:blip r:embed="rId1"/>
          <a:stretch/>
        </p:blipFill>
        <p:spPr>
          <a:xfrm>
            <a:off x="6248520" y="1447920"/>
            <a:ext cx="1582560" cy="47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9528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腋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xillary crut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靠、稳定，用于截瘫或外伤较严重的患者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6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19940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9528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平台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latform crut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又称类风湿杖。有固定带，用于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手关节损害严重的类风湿患者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手部有严重外伤、病变而不宜负重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6248520" y="1447920"/>
            <a:ext cx="18525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8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183" name="Picture 3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行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☻辅助下肢功能障碍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持平衡，支持体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增强上肢伸肌肌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★助行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截瘫行走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交替式行走器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MCj03951880000[1]"/>
          <p:cNvPicPr/>
          <p:nvPr/>
        </p:nvPicPr>
        <p:blipFill>
          <a:blip r:embed="rId1"/>
          <a:stretch/>
        </p:blipFill>
        <p:spPr>
          <a:xfrm>
            <a:off x="6019920" y="4495680"/>
            <a:ext cx="1303200" cy="15973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MCj03952160000[1]"/>
          <p:cNvPicPr/>
          <p:nvPr/>
        </p:nvPicPr>
        <p:blipFill>
          <a:blip r:embed="rId2"/>
          <a:stretch/>
        </p:blipFill>
        <p:spPr>
          <a:xfrm>
            <a:off x="6934320" y="2362320"/>
            <a:ext cx="160164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行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助行架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walking fram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是一种三边形的金属框架，可将患者保护其中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些带轮，可支撑体重，便于站立行走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包括：固定型、交互型、前方有轮型、老年人用步行车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MCj03952060000[1]"/>
          <p:cNvPicPr/>
          <p:nvPr/>
        </p:nvPicPr>
        <p:blipFill>
          <a:blip r:embed="rId1"/>
          <a:stretch/>
        </p:blipFill>
        <p:spPr>
          <a:xfrm>
            <a:off x="7010280" y="4648320"/>
            <a:ext cx="16146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1920" y="1417320"/>
            <a:ext cx="57913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行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截瘫行走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walkabou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适用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下完全性截瘫或部分高位不完全性截瘫的患者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1600200"/>
            <a:ext cx="2765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5029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行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交替式行走器：是最早用于无行走能力的高位瘫痪患者的步行矫形器。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用于各种原因所致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下完全性或更高节段不完全性脊髓损伤患者，使其实现独立行走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29400" y="1295280"/>
            <a:ext cx="2000160" cy="228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15000" y="3581280"/>
            <a:ext cx="23004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使用助行器的护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助行器的高度与病人身材相符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腋杖时应以上肢的臂力与腋窝同时支撑身体，以免腋窝长期受压而损伤腋神经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拐尽量置于健侧以促进患侧负重，注意安全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MCj04162100000[1]"/>
          <p:cNvPicPr/>
          <p:nvPr/>
        </p:nvPicPr>
        <p:blipFill>
          <a:blip r:embed="rId1"/>
          <a:stretch/>
        </p:blipFill>
        <p:spPr>
          <a:xfrm>
            <a:off x="7467480" y="4800600"/>
            <a:ext cx="131472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为截肢者恢复原有肢体的形态或功能，弥补肢体缺损，代偿已失去肢体的部分功能而装配的人工肢体。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3962520"/>
            <a:ext cx="15318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容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国际标准化组织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ISO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和训练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矫形器和假肢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活自理和防护辅助设备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人移动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5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家庭管理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6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家庭及其他场所使用的家具及配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7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通信、信号及信号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8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产品及物品管理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9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环境改善辅助器具和设备、工具及机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0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休闲娱乐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MCj02173660000[1]"/>
          <p:cNvPicPr/>
          <p:nvPr/>
        </p:nvPicPr>
        <p:blipFill>
          <a:blip r:embed="rId1"/>
          <a:stretch/>
        </p:blipFill>
        <p:spPr>
          <a:xfrm>
            <a:off x="6934320" y="5241960"/>
            <a:ext cx="167616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假肢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按结构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按用途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按安装时间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按解剖部位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5" descr="u=502248150,2995729511&amp;fm=0&amp;gp=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2209680"/>
            <a:ext cx="288144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4343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假肢的分类及特点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按结构分为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①壳式假肢；②骨骼式假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" descr=""/>
          <p:cNvPicPr/>
          <p:nvPr/>
        </p:nvPicPr>
        <p:blipFill>
          <a:blip r:embed="rId1"/>
          <a:stretch/>
        </p:blipFill>
        <p:spPr>
          <a:xfrm>
            <a:off x="5334120" y="1371600"/>
            <a:ext cx="1904760" cy="24382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"/>
          <p:cNvPicPr/>
          <p:nvPr/>
        </p:nvPicPr>
        <p:blipFill>
          <a:blip r:embed="rId2"/>
          <a:stretch/>
        </p:blipFill>
        <p:spPr>
          <a:xfrm>
            <a:off x="7010280" y="3581280"/>
            <a:ext cx="17337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5333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的分类及特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按用途分为：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①装饰性假肢；②功能性假肢；③作业性假肢；④运动性假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7" descr="u=4204324454,3325836425&amp;fm=0&amp;gp=3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2468520"/>
            <a:ext cx="28814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u=84546872,2247944689&amp;fm=0&amp;gp=3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1752480"/>
            <a:ext cx="302436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419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的分类及特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按安装时间分为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①临时性假肢； ②正式性假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按解剖部位分为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①上肢假肢 ； ②下肢假肢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7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1600200"/>
            <a:ext cx="2170080" cy="30481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15000" y="4724280"/>
            <a:ext cx="266688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的选取原则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根据残肢康复评定（包括皮肤情况、残肢畸形及程度、残肢长度测量、残端形状、关节活动度、肌力检查等）来选取能代偿或恢复原有肢体的功能和形态的假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以患者接受为原则：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心理接受和经济接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符合康复工程对残肢的要求，如残肢遗有功能、大小、活动度等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使用的护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假肢的穿戴要正确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壳式假肢穿戴时：残肢涂上滑石粉→平整地套上残肢袜，有衬套的假肢先穿上内衬套→再将残肢穿进假肢接受腔内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6" descr="MCj02919900000[1]"/>
          <p:cNvPicPr/>
          <p:nvPr/>
        </p:nvPicPr>
        <p:blipFill>
          <a:blip r:embed="rId1"/>
          <a:stretch/>
        </p:blipFill>
        <p:spPr>
          <a:xfrm>
            <a:off x="7315200" y="5181480"/>
            <a:ext cx="15825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使用的护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起坐和站立的动作要正确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起坐和起立动作时假肢在前、健肢在后，双手压大腿下部，以健侧支撑体重，站起、坐下，假肢靠近椅子或凳子，身体外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度。以健侧支撑，屈膝时假肢侧的手扶椅子或凳子坐下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240" y="2560320"/>
            <a:ext cx="441972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时性假肢安装及康复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穿戴临时假肢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平衡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迈步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④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侧方移位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⑤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上下阶梯及坡道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419720" y="2590920"/>
            <a:ext cx="441936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永久性假肢的安装及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假肢穿戴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起坐和站立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平衡杠内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④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实用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457200" y="1371600"/>
            <a:ext cx="6553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假肢使用的护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期进行康复训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28240" y="141768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使用的护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期进行假肢残肢维护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定期清理，保持假肢清洁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假肢膝轴、踝轴、螺丝、皮带扣、铆钉要定期检查，及时拧紧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金属关节不灵活、有响声时，要及时擦洗加油或更换新轴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残肢某处受压疼痛时，可挖空该处的衬垫或用毛毡填在该部位的周围以减轻疼痛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MCj02055620000[1]"/>
          <p:cNvPicPr/>
          <p:nvPr/>
        </p:nvPicPr>
        <p:blipFill>
          <a:blip r:embed="rId1"/>
          <a:stretch/>
        </p:blipFill>
        <p:spPr>
          <a:xfrm>
            <a:off x="7215120" y="5257800"/>
            <a:ext cx="177660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orthosis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320" y="1417320"/>
            <a:ext cx="716256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义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用于人体四肢、躯干等部位，预防或矫正四肢、躯干的畸形，增强其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正常支撑能力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及治疗骨关节和神经肌肉疾病，并以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补偿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功能为目的的体外器具的总称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通过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固定局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限制异常活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范围达到其目的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7620120" y="1219320"/>
            <a:ext cx="1150920" cy="1752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"/>
          <p:cNvPicPr/>
          <p:nvPr/>
        </p:nvPicPr>
        <p:blipFill>
          <a:blip r:embed="rId2"/>
          <a:stretch/>
        </p:blipFill>
        <p:spPr>
          <a:xfrm>
            <a:off x="7391520" y="3208320"/>
            <a:ext cx="1447560" cy="1363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"/>
          <p:cNvPicPr/>
          <p:nvPr/>
        </p:nvPicPr>
        <p:blipFill>
          <a:blip r:embed="rId3"/>
          <a:stretch/>
        </p:blipFill>
        <p:spPr>
          <a:xfrm>
            <a:off x="7338960" y="4724280"/>
            <a:ext cx="14241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定义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用于由于肌肉、神经、关节等原因导致下肢功能减弱、丧失，或由于病情、年龄等原因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不能行走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康复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代步、身体锻炼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参加社会活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工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适用于脊髓损伤、下肢伤残、颅脑损伤、脑卒中偏瘫、骨关节疾病、年老体弱者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MCj04360290000[1]"/>
          <p:cNvPicPr/>
          <p:nvPr/>
        </p:nvPicPr>
        <p:blipFill>
          <a:blip r:embed="rId1"/>
          <a:stretch/>
        </p:blipFill>
        <p:spPr>
          <a:xfrm>
            <a:off x="6934320" y="4495680"/>
            <a:ext cx="185400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普通轮椅和特殊轮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殊轮椅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站立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躺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单侧驱动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电动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竞技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7" descr="MCj03052790000[1]"/>
          <p:cNvPicPr/>
          <p:nvPr/>
        </p:nvPicPr>
        <p:blipFill>
          <a:blip r:embed="rId1"/>
          <a:stretch/>
        </p:blipFill>
        <p:spPr>
          <a:xfrm>
            <a:off x="6629400" y="3276720"/>
            <a:ext cx="18702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普通轮椅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最常见的轮椅，主要由轮椅架、轮、刹车装置、座靠和脚踏板五部分组成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脊髓损伤、下肢伤残、颅脑疾病、老年和体弱多病的患者使用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6" descr=""/>
          <p:cNvPicPr/>
          <p:nvPr/>
        </p:nvPicPr>
        <p:blipFill>
          <a:blip r:embed="rId1"/>
          <a:stretch/>
        </p:blipFill>
        <p:spPr>
          <a:xfrm>
            <a:off x="6324480" y="4576680"/>
            <a:ext cx="266724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5943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电动轮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轮椅本身携带电源，操控部分可由手、头、舌、气、声等控制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操纵电机的不同转向和转速，实现进退、转弯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双上肢均不能驱动轮椅或高位截瘫者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3657600"/>
            <a:ext cx="228600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单侧驱动轮椅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驱动大轮用的两个驱动轮环均在一侧。适用于只有单侧上肢有驱动轮椅能力的残疾人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1320" y="3581280"/>
            <a:ext cx="27763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站立式轮椅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者可以背靠着靠背实现站立。适用于截瘫残疾人，帮助他们完成必须站立才能完成的工作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3809880"/>
            <a:ext cx="16398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作业型轮椅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用于作业活动的进行。如打字用轮椅无扶手，以便轮椅与工作台接近等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7" descr=""/>
          <p:cNvPicPr/>
          <p:nvPr/>
        </p:nvPicPr>
        <p:blipFill>
          <a:blip r:embed="rId1"/>
          <a:stretch/>
        </p:blipFill>
        <p:spPr>
          <a:xfrm>
            <a:off x="914400" y="3733920"/>
            <a:ext cx="3048120" cy="25192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0" descr="MCj03102520000[1]"/>
          <p:cNvPicPr/>
          <p:nvPr/>
        </p:nvPicPr>
        <p:blipFill>
          <a:blip r:embed="rId2"/>
          <a:stretch/>
        </p:blipFill>
        <p:spPr>
          <a:xfrm>
            <a:off x="5181480" y="3657600"/>
            <a:ext cx="312444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竞技轮椅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供残疾人体育运动时使用，如高速轮椅、篮球轮椅等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8" descr="MCj02320570000[1]"/>
          <p:cNvPicPr/>
          <p:nvPr/>
        </p:nvPicPr>
        <p:blipFill>
          <a:blip r:embed="rId1"/>
          <a:stretch/>
        </p:blipFill>
        <p:spPr>
          <a:xfrm>
            <a:off x="4648320" y="3429000"/>
            <a:ext cx="21668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选取原则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病情需要，合理选择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安全可靠，结实耐用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尺寸合理，使用舒适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使用方便，耗能量少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美观大方，经济实惠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4" descr="MCj04361350000[1]"/>
          <p:cNvPicPr/>
          <p:nvPr/>
        </p:nvPicPr>
        <p:blipFill>
          <a:blip r:embed="rId1"/>
          <a:stretch/>
        </p:blipFill>
        <p:spPr>
          <a:xfrm>
            <a:off x="6248520" y="3429000"/>
            <a:ext cx="24033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轮椅使用的护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按医生的轮椅处方选择适宜的轮椅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使用前检查各部件性能，以保证安全和顺利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病人乘坐轮椅的姿势要正确，坐位不平衡者要系安全带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病人从轮椅站起之前，先将闸制动；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推坐轮椅病人下坡时，应倒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MCj02331950000[1]"/>
          <p:cNvPicPr/>
          <p:nvPr/>
        </p:nvPicPr>
        <p:blipFill>
          <a:blip r:embed="rId1"/>
          <a:stretch/>
        </p:blipFill>
        <p:spPr>
          <a:xfrm>
            <a:off x="7315200" y="5486400"/>
            <a:ext cx="155268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基本功能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稳定和支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固定和矫正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护与免负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偿与助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0" descr=""/>
          <p:cNvPicPr/>
          <p:nvPr/>
        </p:nvPicPr>
        <p:blipFill>
          <a:blip r:embed="rId1"/>
          <a:stretch/>
        </p:blipFill>
        <p:spPr>
          <a:xfrm>
            <a:off x="5105520" y="1828800"/>
            <a:ext cx="1752480" cy="2438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2" descr=""/>
          <p:cNvPicPr/>
          <p:nvPr/>
        </p:nvPicPr>
        <p:blipFill>
          <a:blip r:embed="rId2"/>
          <a:stretch/>
        </p:blipFill>
        <p:spPr>
          <a:xfrm>
            <a:off x="6705720" y="3962520"/>
            <a:ext cx="20397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轮椅使用的护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长时间乘坐轮椅时，应预防压疮，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钟抬臀一次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秒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长时间使用轮椅者，应戴手套以防手掌被轮圈磨破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高位截瘫者乘坐轮椅，必须有专人保护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教会患者轮椅的使用方法及进行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使用训练，如保持正确坐姿，肌力训练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减压训练，轮椅的打开、收放等。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5" descr="MCj01954200000[1]"/>
          <p:cNvPicPr/>
          <p:nvPr/>
        </p:nvPicPr>
        <p:blipFill>
          <a:blip r:embed="rId1"/>
          <a:stretch/>
        </p:blipFill>
        <p:spPr>
          <a:xfrm>
            <a:off x="7162920" y="4734000"/>
            <a:ext cx="171108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命名：国际标准组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S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足矫形器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Foot Orthosis   ——   FO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踝足矫形器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nkle Foot Orthosis   ——   AF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膝踝足矫形器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nee Ankle Foot Orthosis——KAF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手矫形器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and Orthosis  ——  H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腕手矫形器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rist Hand Orthosis  ——  WHO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上肢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upper extremity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肢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ow extremity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脊柱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pinal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MCj02324270000[1]"/>
          <p:cNvPicPr/>
          <p:nvPr/>
        </p:nvPicPr>
        <p:blipFill>
          <a:blip r:embed="rId1"/>
          <a:stretch/>
        </p:blipFill>
        <p:spPr>
          <a:xfrm>
            <a:off x="5645160" y="4691160"/>
            <a:ext cx="1212840" cy="1861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MCj02949270000[1]"/>
          <p:cNvPicPr/>
          <p:nvPr/>
        </p:nvPicPr>
        <p:blipFill>
          <a:blip r:embed="rId2"/>
          <a:stretch/>
        </p:blipFill>
        <p:spPr>
          <a:xfrm>
            <a:off x="7029360" y="4667400"/>
            <a:ext cx="180972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上肢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upper extremity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的是保持不稳定的肢体位于功能位，提供牵引力以防止挛缩，预防或矫正肢体畸形，以及补偿失去的肌力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固定性（静止性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功能性（可动性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1523880" y="388620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8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"/>
          <p:cNvPicPr/>
          <p:nvPr/>
        </p:nvPicPr>
        <p:blipFill>
          <a:blip r:embed="rId1"/>
          <a:stretch/>
        </p:blipFill>
        <p:spPr>
          <a:xfrm>
            <a:off x="5029200" y="304920"/>
            <a:ext cx="3286080" cy="4572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"/>
          <p:cNvPicPr/>
          <p:nvPr/>
        </p:nvPicPr>
        <p:blipFill>
          <a:blip r:embed="rId2"/>
          <a:stretch/>
        </p:blipFill>
        <p:spPr>
          <a:xfrm>
            <a:off x="720720" y="380880"/>
            <a:ext cx="4079880" cy="44197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9"/>
          <p:cNvSpPr/>
          <p:nvPr/>
        </p:nvSpPr>
        <p:spPr>
          <a:xfrm>
            <a:off x="1504800" y="4952880"/>
            <a:ext cx="207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固定性上肢矫形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5562720" y="4952880"/>
            <a:ext cx="207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功能性上肢矫形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est2</cp:lastModifiedBy>
  <dcterms:modified xsi:type="dcterms:W3CDTF">2015-12-16T07:14:44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